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D1F8-CC4C-40EB-B580-4F22216B6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60C4-7646-4574-B1FA-AA8B6C74A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CF02-AB05-4CD5-8A4F-35BFE6F26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4589-6AD6-4F45-BD28-58A8BB796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3547-586F-43F2-BBB9-C549E31A8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B836-6793-4F8B-8F7A-2F72DAFDC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7D88-65F4-41E0-945F-5B8ADC7DC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C502-95C4-4932-8C93-F179BFFBD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DB35-9FC1-48DD-976E-EB8F023C7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7ABF-F266-4AF5-8271-9CAB9644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D302-30E4-4800-9716-D9EB25F8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8CDD-1099-446D-A501-7BD17E13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62477-E5B4-4B5C-9253-0A3F50CC0C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brave little toas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: Coley Colw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Content Placeholder 3" descr="blt.jpg"/>
          <p:cNvPicPr/>
          <p:nvPr/>
        </p:nvPicPr>
        <p:blipFill>
          <a:blip r:embed="rId1"/>
          <a:stretch/>
        </p:blipFill>
        <p:spPr>
          <a:xfrm>
            <a:off x="465120" y="1911240"/>
            <a:ext cx="4022640" cy="3903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was a brave little toas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 went on a h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Content Placeholder 4" descr="brave-little-toaster.jpg"/>
          <p:cNvPicPr/>
          <p:nvPr/>
        </p:nvPicPr>
        <p:blipFill>
          <a:blip r:embed="rId1"/>
          <a:stretch/>
        </p:blipFill>
        <p:spPr>
          <a:xfrm>
            <a:off x="1047600" y="2792520"/>
            <a:ext cx="2857680" cy="21430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got chased by a bad m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Content Placeholder 4" descr="angrytoaster.jpg"/>
          <p:cNvPicPr/>
          <p:nvPr/>
        </p:nvPicPr>
        <p:blipFill>
          <a:blip r:embed="rId1"/>
          <a:stretch/>
        </p:blipFill>
        <p:spPr>
          <a:xfrm>
            <a:off x="457200" y="2336760"/>
            <a:ext cx="4038480" cy="3052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oaster learned it was a trick by blank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4" descr="lampo.jpg"/>
          <p:cNvPicPr/>
          <p:nvPr/>
        </p:nvPicPr>
        <p:blipFill>
          <a:blip r:embed="rId1"/>
          <a:stretch/>
        </p:blipFill>
        <p:spPr>
          <a:xfrm>
            <a:off x="914400" y="2286000"/>
            <a:ext cx="3124080" cy="2754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 made a plan with la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Content Placeholder 4" descr="tapferekleinetoaster01.jpg"/>
          <p:cNvPicPr/>
          <p:nvPr/>
        </p:nvPicPr>
        <p:blipFill>
          <a:blip r:embed="rId1"/>
          <a:stretch/>
        </p:blipFill>
        <p:spPr>
          <a:xfrm>
            <a:off x="533520" y="2057400"/>
            <a:ext cx="3200400" cy="2819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 was going to trick blanket b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ing vacu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 they took him to the cany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mess with hi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Content Placeholder 4" descr="canyon.jpg"/>
          <p:cNvPicPr/>
          <p:nvPr/>
        </p:nvPicPr>
        <p:blipFill>
          <a:blip r:embed="rId1"/>
          <a:stretch/>
        </p:blipFill>
        <p:spPr>
          <a:xfrm>
            <a:off x="5357880" y="2362320"/>
            <a:ext cx="261936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was a funny jo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all laughe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they were all friends ag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aww.jpg"/>
          <p:cNvPicPr/>
          <p:nvPr/>
        </p:nvPicPr>
        <p:blipFill>
          <a:blip r:embed="rId1"/>
          <a:stretch/>
        </p:blipFill>
        <p:spPr>
          <a:xfrm>
            <a:off x="0" y="1828800"/>
            <a:ext cx="461016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18:17:24Z</dcterms:created>
  <dc:creator>itsuser</dc:creator>
  <dc:description/>
  <dc:language>en-US</dc:language>
  <cp:lastModifiedBy>itsuser</cp:lastModifiedBy>
  <dcterms:modified xsi:type="dcterms:W3CDTF">2009-03-05T18:31:14Z</dcterms:modified>
  <cp:revision>4</cp:revision>
  <dc:subject/>
  <dc:title>The brave little toaster</dc:title>
</cp:coreProperties>
</file>